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02B2E-964D-456D-8E32-E3131438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6AD3-A1BB-43C3-91FE-04744248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1CBB5-A410-4CD0-B55F-B79D7F67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7279-2608-40E8-98B6-2C67212A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7C2E-0076-4D6B-8EF2-EAB4BB6C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9DB5-196B-4040-9A79-07223543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2B6C-5B67-4506-9002-760A8584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9307-C969-49DB-AAF1-3182E7BA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BA7D-0A10-4B35-BB5C-15E2E5C7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2768-36F2-49B0-99E8-7C9A7FEB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1566-C4F9-4A10-8B04-993097F0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6406-AFFB-4C93-A56B-EDFAE47F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66B7-6C72-4C44-BCF0-2BFA4CD1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D06C-E27B-47F7-BFC9-CB9B637E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DEC8-2E0B-4AFA-8D86-682DA2BB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95B5-3700-4887-ABE9-93984D63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B5D1-7239-4A77-A89B-EBB48772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1974A-D920-492F-A8C6-19691E78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0EEBD-8655-4FBD-B025-FB42EE0A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A1494-7769-4A24-9D56-9723AB1D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2A4E-0E58-4040-9C46-6382115C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7316-BF69-4B02-BB0E-7D98F4E3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FB09-7282-420E-A975-EB70DFB6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6CCC-8C85-4F5C-AA2E-CFB8DBF7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668A-0621-4043-B608-CC91CA2E40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B720-5A32-4598-BFAD-DA8B965421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utokey-Plai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as easy to break as the autokey-ciphertext but . .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asiski-like method exists to determine the “group length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-length is the actual keyword length but since the keyword is not repeated, the group-length describes the length of segments of the runnin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egments define the distance between a plaintext letter being enciphered and becoming a key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85BEB-0F31-4CA9-8AD8-681DE45703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xample, if the keyword is “alice” a possible cipher structure could be given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04480" y="45957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5400" y="41338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8280" y="4570560"/>
            <a:ext cx="2161800" cy="1532880"/>
            <a:chOff x="368280" y="4570560"/>
            <a:chExt cx="2161800" cy="1532880"/>
          </a:xfrm>
        </p:grpSpPr>
        <p:sp>
          <p:nvSpPr>
            <p:cNvPr id="120" name=""/>
            <p:cNvSpPr/>
            <p:nvPr/>
          </p:nvSpPr>
          <p:spPr>
            <a:xfrm>
              <a:off x="957240" y="457056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8280" y="564372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enciphe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208320" y="4094280"/>
            <a:ext cx="2148120" cy="2052000"/>
            <a:chOff x="3208320" y="4094280"/>
            <a:chExt cx="2148120" cy="2052000"/>
          </a:xfrm>
        </p:grpSpPr>
        <p:sp>
          <p:nvSpPr>
            <p:cNvPr id="123" name=""/>
            <p:cNvSpPr/>
            <p:nvPr/>
          </p:nvSpPr>
          <p:spPr>
            <a:xfrm>
              <a:off x="3381480" y="409428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8320" y="5686560"/>
              <a:ext cx="21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a key let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57480" y="3571920"/>
            <a:ext cx="2438280" cy="641160"/>
            <a:chOff x="1257480" y="3571920"/>
            <a:chExt cx="2438280" cy="641160"/>
          </a:xfrm>
        </p:grpSpPr>
        <p:sp>
          <p:nvSpPr>
            <p:cNvPr id="126" name=""/>
            <p:cNvSpPr/>
            <p:nvPr/>
          </p:nvSpPr>
          <p:spPr>
            <a:xfrm>
              <a:off x="1257480" y="3741840"/>
              <a:ext cx="0" cy="47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95760" y="3722760"/>
              <a:ext cx="0" cy="4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57200" y="3941640"/>
              <a:ext cx="2257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0120" y="357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C5CF-AE44-4B8E-B6F7-8AB3657D71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154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o discover the group length from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group length is 5 then every plaintext letter will be enciphered by the letter 5 positions to its left and in turn will encipher the letter 5 positions to its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plaintext has a lot of repeated characters there will be an unusually large number of identical letters separated by the group leng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735440"/>
            <a:ext cx="621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:     . . . R . . .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aintext:     . . . S . . .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phertext:     . . . J . . .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251320" y="4803840"/>
            <a:ext cx="1793880" cy="709560"/>
            <a:chOff x="5251320" y="4803840"/>
            <a:chExt cx="1793880" cy="709560"/>
          </a:xfrm>
        </p:grpSpPr>
        <p:sp>
          <p:nvSpPr>
            <p:cNvPr id="134" name=""/>
            <p:cNvSpPr/>
            <p:nvPr/>
          </p:nvSpPr>
          <p:spPr>
            <a:xfrm>
              <a:off x="5251320" y="5167440"/>
              <a:ext cx="33624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8600" y="4803840"/>
              <a:ext cx="33660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587560" y="5051160"/>
              <a:ext cx="109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99000" y="4667400"/>
            <a:ext cx="3470400" cy="1191240"/>
            <a:chOff x="5499000" y="4667400"/>
            <a:chExt cx="3470400" cy="1191240"/>
          </a:xfrm>
        </p:grpSpPr>
        <p:sp>
          <p:nvSpPr>
            <p:cNvPr id="138" name=""/>
            <p:cNvSpPr/>
            <p:nvPr/>
          </p:nvSpPr>
          <p:spPr>
            <a:xfrm>
              <a:off x="6707160" y="5165640"/>
              <a:ext cx="355680" cy="3556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9000" y="5024520"/>
              <a:ext cx="11988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15400" y="4667400"/>
              <a:ext cx="185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here is a 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hance that th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kind of event w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occ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83080" y="5823000"/>
            <a:ext cx="1499040" cy="455760"/>
            <a:chOff x="5383080" y="5823000"/>
            <a:chExt cx="1499040" cy="455760"/>
          </a:xfrm>
        </p:grpSpPr>
        <p:sp>
          <p:nvSpPr>
            <p:cNvPr id="142" name=""/>
            <p:cNvSpPr/>
            <p:nvPr/>
          </p:nvSpPr>
          <p:spPr>
            <a:xfrm>
              <a:off x="5410440" y="5823000"/>
              <a:ext cx="0" cy="284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37440" y="5919840"/>
              <a:ext cx="13935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7080" y="5824440"/>
              <a:ext cx="0" cy="28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83080" y="591048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Group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912B-DF9F-4557-B0BC-8C7EAD42AA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786280" cy="24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distances between all letter repeti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common distances are strong candidates for the group-leng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automatically calculate these di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4680" y="3376440"/>
            <a:ext cx="257184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6FAE-DCA8-4877-9B02-7D7A44A39F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6320" y="2055600"/>
            <a:ext cx="82501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f the group length reveals how the plaintext is divided into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roup length is 5, then the first segment consists of every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ter beginning with the first le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e encipher chain for this segment,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6120" y="51544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96760" y="469260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1040" y="56260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t s q u m l h v w f s m c 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93880" y="5019480"/>
            <a:ext cx="2547360" cy="586080"/>
            <a:chOff x="893880" y="5019480"/>
            <a:chExt cx="2547360" cy="586080"/>
          </a:xfrm>
        </p:grpSpPr>
        <p:sp>
          <p:nvSpPr>
            <p:cNvPr id="155" name=""/>
            <p:cNvSpPr/>
            <p:nvPr/>
          </p:nvSpPr>
          <p:spPr>
            <a:xfrm>
              <a:off x="893880" y="5203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303200" y="5019480"/>
              <a:ext cx="2138040" cy="33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788080" y="5259240"/>
            <a:ext cx="401760" cy="4017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354480" y="5010120"/>
            <a:ext cx="2555280" cy="622440"/>
            <a:chOff x="3354480" y="5010120"/>
            <a:chExt cx="2555280" cy="622440"/>
          </a:xfrm>
        </p:grpSpPr>
        <p:sp>
          <p:nvSpPr>
            <p:cNvPr id="159" name=""/>
            <p:cNvSpPr/>
            <p:nvPr/>
          </p:nvSpPr>
          <p:spPr>
            <a:xfrm>
              <a:off x="3354480" y="5230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87560" y="5010120"/>
              <a:ext cx="2122200" cy="35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903240" y="569448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6560" y="567864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07160" y="5697360"/>
            <a:ext cx="434880" cy="435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F493-0B28-4BFB-8F02-F7A6571EED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ute Force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7076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a brute force attack because each segment is defined by its beginning character (which is from the key wor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6440" y="3916440"/>
            <a:ext cx="75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iphertext (known)    Key character (unknown)   plaintext (un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24480" y="419724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58316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01440" y="5016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280040" y="3500280"/>
            <a:ext cx="1342800" cy="1148760"/>
            <a:chOff x="4280040" y="3500280"/>
            <a:chExt cx="1342800" cy="1148760"/>
          </a:xfrm>
        </p:grpSpPr>
        <p:sp>
          <p:nvSpPr>
            <p:cNvPr id="171" name=""/>
            <p:cNvSpPr/>
            <p:nvPr/>
          </p:nvSpPr>
          <p:spPr>
            <a:xfrm>
              <a:off x="4280040" y="41893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81440" y="3500280"/>
              <a:ext cx="941400" cy="647640"/>
            </a:xfrm>
            <a:prstGeom prst="wedgeRoundRectCallout">
              <a:avLst>
                <a:gd name="adj1" fmla="val -44773"/>
                <a:gd name="adj2" fmla="val 70097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u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755760" y="4179960"/>
            <a:ext cx="266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308120" y="4397400"/>
            <a:ext cx="2370600" cy="626400"/>
            <a:chOff x="4308120" y="4397400"/>
            <a:chExt cx="2370600" cy="626400"/>
          </a:xfrm>
        </p:grpSpPr>
        <p:sp>
          <p:nvSpPr>
            <p:cNvPr id="175" name=""/>
            <p:cNvSpPr/>
            <p:nvPr/>
          </p:nvSpPr>
          <p:spPr>
            <a:xfrm flipH="1">
              <a:off x="4662720" y="4397400"/>
              <a:ext cx="201600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08120" y="45640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287960" y="4956120"/>
            <a:ext cx="2788560" cy="551880"/>
            <a:chOff x="4287960" y="4956120"/>
            <a:chExt cx="2788560" cy="551880"/>
          </a:xfrm>
        </p:grpSpPr>
        <p:sp>
          <p:nvSpPr>
            <p:cNvPr id="178" name=""/>
            <p:cNvSpPr/>
            <p:nvPr/>
          </p:nvSpPr>
          <p:spPr>
            <a:xfrm>
              <a:off x="6726600" y="49561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87960" y="5048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295160" y="4578480"/>
            <a:ext cx="2749680" cy="459720"/>
            <a:chOff x="4295160" y="4578480"/>
            <a:chExt cx="2749680" cy="459720"/>
          </a:xfrm>
        </p:grpSpPr>
        <p:sp>
          <p:nvSpPr>
            <p:cNvPr id="181" name=""/>
            <p:cNvSpPr/>
            <p:nvPr/>
          </p:nvSpPr>
          <p:spPr>
            <a:xfrm>
              <a:off x="4295160" y="45784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11840" y="45784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307040" y="4822920"/>
            <a:ext cx="2442960" cy="658080"/>
            <a:chOff x="4307040" y="4822920"/>
            <a:chExt cx="2442960" cy="658080"/>
          </a:xfrm>
        </p:grpSpPr>
        <p:sp>
          <p:nvSpPr>
            <p:cNvPr id="184" name=""/>
            <p:cNvSpPr/>
            <p:nvPr/>
          </p:nvSpPr>
          <p:spPr>
            <a:xfrm flipH="1">
              <a:off x="4751280" y="4822920"/>
              <a:ext cx="199872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07040" y="5021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360440" y="4466880"/>
            <a:ext cx="2921040" cy="1806120"/>
            <a:chOff x="1360440" y="4466880"/>
            <a:chExt cx="2921040" cy="1806120"/>
          </a:xfrm>
        </p:grpSpPr>
        <p:sp>
          <p:nvSpPr>
            <p:cNvPr id="187" name=""/>
            <p:cNvSpPr/>
            <p:nvPr/>
          </p:nvSpPr>
          <p:spPr>
            <a:xfrm>
              <a:off x="1360440" y="5813280"/>
              <a:ext cx="26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y all 26 gu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038400" y="4466880"/>
              <a:ext cx="1243080" cy="14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516640" y="5371920"/>
            <a:ext cx="2940840" cy="1489320"/>
            <a:chOff x="5516640" y="5371920"/>
            <a:chExt cx="2940840" cy="1489320"/>
          </a:xfrm>
        </p:grpSpPr>
        <p:sp>
          <p:nvSpPr>
            <p:cNvPr id="190" name=""/>
            <p:cNvSpPr/>
            <p:nvPr/>
          </p:nvSpPr>
          <p:spPr>
            <a:xfrm>
              <a:off x="5516640" y="6035760"/>
              <a:ext cx="294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 a low frequenc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acter 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900840" y="5371920"/>
              <a:ext cx="0" cy="73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567A-103F-452E-A18D-5102B17B46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4T03:28:15Z</dcterms:modified>
  <cp:revision>64</cp:revision>
  <dc:subject/>
  <dc:title>CAP Cryptographic Analysis Program</dc:title>
</cp:coreProperties>
</file>